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C11-819C-4C94-A551-58C5F7F2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330-7B31-4EFB-8EF9-500F9D68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B02-B363-463B-AED3-E930E006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486-7796-4D3A-A8D9-265D5EB6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EF4-61E5-435B-952E-A825A53C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B98-167E-49BF-8BB8-3328C20B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5FD-1CA2-4244-8946-73747C57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4D6-ED9C-4968-87F3-55E4A8C4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9C1-CA5B-4B78-A7DB-C50CD0F2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7FC-8CEB-463C-8D97-C21467AD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1FB-D510-4FFD-BB20-EC754382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8FA-8883-4A15-9926-15AF1EE4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C020-810E-4272-893E-77757804A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eaturepics.com/StockPictures/Motherboard-875712.aspx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1"/>
          <p:cNvGrpSpPr/>
          <p:nvPr/>
        </p:nvGrpSpPr>
        <p:grpSpPr>
          <a:xfrm>
            <a:off x="228600" y="228600"/>
            <a:ext cx="8686800" cy="7196400"/>
            <a:chOff x="228600" y="228600"/>
            <a:chExt cx="8686800" cy="7196400"/>
          </a:xfrm>
        </p:grpSpPr>
        <p:sp>
          <p:nvSpPr>
            <p:cNvPr id="42" name="Oval 1"/>
            <p:cNvSpPr/>
            <p:nvPr/>
          </p:nvSpPr>
          <p:spPr>
            <a:xfrm>
              <a:off x="2590560" y="2438280"/>
              <a:ext cx="2971800" cy="1584360"/>
            </a:xfrm>
            <a:prstGeom prst="ellipse">
              <a:avLst/>
            </a:prstGeom>
            <a:noFill/>
            <a:ln w="25560">
              <a:solidFill>
                <a:srgbClr val="3185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2"/>
            <p:cNvSpPr/>
            <p:nvPr/>
          </p:nvSpPr>
          <p:spPr>
            <a:xfrm>
              <a:off x="228600" y="228600"/>
              <a:ext cx="4343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Defin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 central printed circuit board in many complex electronic systems such as the personal comput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3"/>
            <p:cNvSpPr/>
            <p:nvPr/>
          </p:nvSpPr>
          <p:spPr>
            <a:xfrm>
              <a:off x="4572000" y="228600"/>
              <a:ext cx="4343400" cy="33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Characterist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otherboard provides the  electrical connections  for other components to communicate. These can include a microprocessor, main memory, external storage, video display and soun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6"/>
            <p:cNvSpPr/>
            <p:nvPr/>
          </p:nvSpPr>
          <p:spPr>
            <a:xfrm>
              <a:off x="4572000" y="413712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Non-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5"/>
            <p:cNvSpPr/>
            <p:nvPr/>
          </p:nvSpPr>
          <p:spPr>
            <a:xfrm>
              <a:off x="228600" y="4038480"/>
              <a:ext cx="4343400" cy="33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technician had to replace the motherboard in Karl’s computer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4" descr="Picture of Socket 775 motherboard isolated on wh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4114800"/>
            <a:ext cx="2857680" cy="1895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2819520" y="28195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other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6934320" y="3200400"/>
            <a:ext cx="164916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18:18Z</dcterms:created>
  <dc:creator>Administrator</dc:creator>
  <dc:description/>
  <dc:language>en-US</dc:language>
  <cp:lastModifiedBy>admin</cp:lastModifiedBy>
  <dcterms:modified xsi:type="dcterms:W3CDTF">2009-03-10T22:16:42Z</dcterms:modified>
  <cp:revision>26</cp:revision>
  <dc:subject/>
  <dc:title>Slide 1</dc:title>
</cp:coreProperties>
</file>